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FFD-7046-412F-9BD6-C8BE04C1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C9E-219B-42F9-ADAC-076FEB3F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B03-3549-4389-96B4-19451D78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950-3433-4B26-89AC-5864B820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BCDB-B890-4F8C-884C-CB8EFF2C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A9B6-3F90-4B5E-96B5-5DC3E820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4A61-6022-40CC-99A8-5F58BB15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E8C8-8F89-4909-9186-F217FF05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217A-57EF-4548-ADA5-FD896903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132B-AF91-47A0-B300-17A3DB87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30A0-CB75-4B1D-BFD3-2B16C5B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1B1-193D-4252-89A1-2908ED83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A93F-10F6-41B0-9819-4630629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3946-C2CD-4506-BA53-7F63836B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2CCB-9332-4211-9DC8-EFDA1F57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236B-EABF-496C-AD50-C1F2C72F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7208-4A78-41FE-8229-4CF1F9F9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F32-627F-49AB-84DD-726632AF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0FC-E07E-4B6C-92CA-2692451E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FEA-2987-41AD-89F7-79C7E161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CDF-6F58-4F38-A39B-3DFF85FD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D68-C6E9-433B-BFD6-2E28C65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1FC-988D-4CA0-9EFE-77121FD7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7A4-F4C8-466D-AB05-EF863C41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4424-AA30-4788-BC6B-264D2895C9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A239-4A8C-4620-AF9E-115E62B8BC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ucating Boys: Examining Which Learning Style Is Most Effectiv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ction Research Project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Peta-Gaye T. Gre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ation 702.2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ring 201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 of the Problem                                       3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Review of Related Literature                                  4-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Statement of the Hypothesis                                   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ment of the Proble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significant differences in the ways girls and boys learn. Traditional education-the “sit down, be quiet and learn” approach-a system in place for decades and far more suitable to female learning, has been falling boys for a long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ys are impulsive, special-kinesthetic and physical aggressive learners. The focus on introducing more-boy friendly teaching strategies in the classroom has increas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arrier, 2009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ys and girls, because of differences in brain construction, have differing educational needs and schools are not meeting boys’ nee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eaver-Hightower, 2003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ta-Analytic Validation of the Dunn and Dunn Model of Learning- Style Preferenc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Dunn, Griggs,Olson, &amp; Beasley, 2001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der Characteristics of Children in the Primary Stage of Instruc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Buzhigeeva, 2004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ary School Students’ Learning Preferences and the Classroom Learning Environment: Implications for Educational Practice and Polic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Johnson, 2006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of Boys’ Literacy Underachievement: Raising Some Ques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Watson, Kehler &amp; Martino, 2010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 Teachers And The “Boy Problem”: An Issue Of Recuperative Masculinity Politic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Martino &amp; Kehler, 2006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ating Boys: Tempering Rhetoric With Researc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Froese-Germain, 2006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aching  to the Minds of Bo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King &amp; Gurian, 2006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ching Boys: An International Study of Effective Teaching Practic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Reichert &amp; Hawley, 2010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ment of the Hypothesi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1: Conducting engaging, active and hands-on lessons with the boys in Class A will promote successful learning and hold their interes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0:24:45Z</dcterms:created>
  <dc:creator>DIMS BFS</dc:creator>
  <dc:description/>
  <dc:language>en-US</dc:language>
  <cp:lastModifiedBy>DIMS BFS</cp:lastModifiedBy>
  <dcterms:modified xsi:type="dcterms:W3CDTF">2010-03-23T04:55:51Z</dcterms:modified>
  <cp:revision>9</cp:revision>
  <dc:subject/>
  <dc:title>Educating Boys:Examining Which Learning Style Is Most Effective</dc:title>
</cp:coreProperties>
</file>